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61C54-B94E-49DF-981E-BB1CC1C7A9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AAF18-D7A0-42F9-9F3B-D79DA7FD6423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4CAD6-1658-483D-B622-42D304F47444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9A9FA-8DB5-418F-8B6E-D515ABDA338D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C993A-C768-4E1D-A719-97B318D387BE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BD4F4-22EB-4241-A8CD-A55A93E9AF26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17DCE-9779-487F-A7A5-BF66EB383591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E681D-586A-46CA-98DE-6A55DA0726C2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F01C9-02C4-4021-BB1D-D43613775E2B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09695-1C95-4821-A5C8-0133CAA118D8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9A0FA-793A-4939-A96F-7DEF3E39638C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2AE62-E20A-4E02-9CB6-6DA817614702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33A6F-7C75-429E-99C8-9331A508BE83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1614-8EA8-4D1C-BA1A-2B28FA11D218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E0DA8-C75E-4753-A58B-18B31E542EEC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13C47-F960-4608-A8FB-3672B2BD70ED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87B0A-2CBB-4CB5-9D63-88CE1C324A94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00E70-36D1-4A2C-B286-316A86C4DF0C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D2291-4401-44AE-B33B-ACFA63D9A7C6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C04CE-9EA6-44F2-8E62-1B1B86BBA4A3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76BB5-7112-438C-B396-554DA5C8E967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000A1-00C3-4861-A49E-3FA79450A7F1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D76BE-FFBE-4548-8841-A1CBAEC91D6C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8193-8141-4C4F-9A24-17ECE8B7F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609A-F362-4F45-BC3F-12711690D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2C62-CAC3-4CE5-9808-2FAA355B1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9F4C-A4BC-443B-9EE8-A6674B487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904EE-93E9-4595-8D25-4C303FCCD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B7040-B653-4AEB-8773-90CC3B47D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D853D-4348-4FDB-A03C-99A0D38C3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5FBCF-4CB6-4B82-9975-7D88761CD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E0893-DEA2-4065-B82E-924AFDB89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3D296-DE31-4274-90AB-3649662C2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32F55-4F80-4313-818B-7BA0E54F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9376-F4B6-4A7D-A409-20FD758A6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E7079-408A-47D4-B3ED-8729C219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93E93-1378-4BA3-9652-1D2F1BFF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7B962-B72A-45A2-89A0-AF4519D0A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603AF-4934-4EAF-BA02-3E3B71DBB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D8EA8-C1B7-4E48-AE4B-3742AD0EC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C0E6-1F63-4534-9D29-020926AE1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4525-B47A-4C6A-9823-3F58B6D1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CEBA-28EE-40CF-93A3-2EBE8E0DD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F0A4-6F35-49E9-B58A-10CEC31BF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B283-98CA-4009-A986-49D3B832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D45E-B1F2-4D10-B6A9-5A5675C0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99C6-13B8-4100-9F93-BCB71FB3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8D1B3-75FF-4E29-854C-D104F6406A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B7DB8-365C-43EE-AD3E-13009DD18035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ar in the Pacif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bomb.wmv" descr=""/>
          <p:cNvPicPr/>
          <p:nvPr/>
        </p:nvPicPr>
        <p:blipFill>
          <a:blip r:embed="rId1"/>
          <a:stretch/>
        </p:blipFill>
        <p:spPr>
          <a:xfrm>
            <a:off x="3200400" y="327672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earl Harbor: U.S. reac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701064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.S. declared war on Japan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Dec. 8, 194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.S. mobilizes for total w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pearlharborposter"/>
          <p:cNvPicPr/>
          <p:nvPr/>
        </p:nvPicPr>
        <p:blipFill>
          <a:blip r:embed="rId1"/>
          <a:stretch/>
        </p:blipFill>
        <p:spPr>
          <a:xfrm>
            <a:off x="1652760" y="3505320"/>
            <a:ext cx="2219040" cy="3276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Poster"/>
          <p:cNvPicPr/>
          <p:nvPr/>
        </p:nvPicPr>
        <p:blipFill>
          <a:blip r:embed="rId2"/>
          <a:stretch/>
        </p:blipFill>
        <p:spPr>
          <a:xfrm>
            <a:off x="4952880" y="3505320"/>
            <a:ext cx="2146320" cy="3276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Franklin D. Roosevelt"/>
          <p:cNvPicPr/>
          <p:nvPr/>
        </p:nvPicPr>
        <p:blipFill>
          <a:blip r:embed="rId3"/>
          <a:stretch/>
        </p:blipFill>
        <p:spPr>
          <a:xfrm>
            <a:off x="7086600" y="1828800"/>
            <a:ext cx="1333440" cy="1566720"/>
          </a:xfrm>
          <a:prstGeom prst="rect">
            <a:avLst/>
          </a:prstGeom>
          <a:ln w="0">
            <a:noFill/>
          </a:ln>
        </p:spPr>
      </p:pic>
      <p:pic>
        <p:nvPicPr>
          <p:cNvPr id="124" name="infamy.wav" descr=""/>
          <p:cNvPicPr/>
          <p:nvPr/>
        </p:nvPicPr>
        <p:blipFill>
          <a:blip r:embed="rId4"/>
          <a:stretch/>
        </p:blipFill>
        <p:spPr>
          <a:xfrm>
            <a:off x="4724280" y="2438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27493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9" dur="1" fill="hold"/>
                                  <p:tgtEl>
                                    <p:spTgt spid="12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earl Harbor: U.S. reac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4038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ecutive Order 9066: Japanese living on the West Coast of the U.S. forced to move to internment cam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Sign posted notifying people of Japanese descent to report to for relocation."/>
          <p:cNvPicPr/>
          <p:nvPr/>
        </p:nvPicPr>
        <p:blipFill>
          <a:blip r:embed="rId1"/>
          <a:stretch/>
        </p:blipFill>
        <p:spPr>
          <a:xfrm>
            <a:off x="5638680" y="1981080"/>
            <a:ext cx="2687760" cy="3276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9452075"/>
          <p:cNvPicPr/>
          <p:nvPr/>
        </p:nvPicPr>
        <p:blipFill>
          <a:blip r:embed="rId2"/>
          <a:stretch/>
        </p:blipFill>
        <p:spPr>
          <a:xfrm>
            <a:off x="2133720" y="4952880"/>
            <a:ext cx="259056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99840" y="1371600"/>
            <a:ext cx="7086600" cy="468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6666"/>
                </a:solidFill>
                <a:latin typeface="Arial"/>
              </a:rPr>
              <a:t>If you were FDR in 1942, what would you have done about the Japanese living in the U.S.? Why?</a:t>
            </a:r>
            <a:br>
              <a:rPr sz="4200"/>
            </a:br>
            <a:br>
              <a:rPr sz="4200"/>
            </a:br>
            <a:r>
              <a:rPr b="0" lang="en-US" sz="4200" spc="-1" strike="noStrike">
                <a:solidFill>
                  <a:srgbClr val="336666"/>
                </a:solidFill>
                <a:latin typeface="Arial"/>
              </a:rPr>
              <a:t>Share your answers with a partner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earl Harbor: World reac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42674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eat Britain declared war on Japan on Dec. 8, 194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rmany and Italy declared war on the U.S. on Dec. 11, 194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Winston Churchill"/>
          <p:cNvPicPr/>
          <p:nvPr/>
        </p:nvPicPr>
        <p:blipFill>
          <a:blip r:embed="rId1"/>
          <a:stretch/>
        </p:blipFill>
        <p:spPr>
          <a:xfrm>
            <a:off x="6858000" y="1600200"/>
            <a:ext cx="1593720" cy="1924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mussolini_hitler"/>
          <p:cNvPicPr/>
          <p:nvPr/>
        </p:nvPicPr>
        <p:blipFill>
          <a:blip r:embed="rId2"/>
          <a:stretch/>
        </p:blipFill>
        <p:spPr>
          <a:xfrm>
            <a:off x="6118200" y="3657600"/>
            <a:ext cx="240660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3" dur="1" fill="hold"/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attles/Engagement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880" y="3352320"/>
            <a:ext cx="701064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olittle raid – April 19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ttle of Coral Sea – May 19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way – June 19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adalcanal – Nov. 19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1523880" y="1676520"/>
            <a:ext cx="5943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ough 1942, the Japanese expanded their empire in Asia and in the Pacific, but after that: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7" dur="1" fill="hold"/>
                                  <p:tgtEl>
                                    <p:spTgt spid="13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attles/Engagement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omon Islands – Nov. 19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wajalein – Feb. 19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yte Gulf – Oct. 19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wo Jima – Feb. 19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ebombing Tokyo – March 19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6" dur="1" fill="hold"/>
                                  <p:tgtEl>
                                    <p:spTgt spid="13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6666"/>
                </a:solidFill>
                <a:latin typeface="Arial"/>
              </a:rPr>
              <a:t>Note-check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70106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336666"/>
                </a:solidFill>
                <a:latin typeface="Arial"/>
              </a:rPr>
              <a:t>Take a few minutes to compare notes with a partner. Clarify any info you don’t fully understan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Japanese atrociti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Image:JapaneseStormNanjing.jpg"/>
          <p:cNvPicPr/>
          <p:nvPr/>
        </p:nvPicPr>
        <p:blipFill>
          <a:blip r:embed="rId1"/>
          <a:stretch/>
        </p:blipFill>
        <p:spPr>
          <a:xfrm>
            <a:off x="1143000" y="2514600"/>
            <a:ext cx="3809880" cy="29145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Prisoners on the march from Bataan to the prison camp, May 1942. (National Archives)"/>
          <p:cNvPicPr/>
          <p:nvPr/>
        </p:nvPicPr>
        <p:blipFill>
          <a:blip r:embed="rId2"/>
          <a:stretch/>
        </p:blipFill>
        <p:spPr>
          <a:xfrm>
            <a:off x="5334120" y="3995640"/>
            <a:ext cx="3352680" cy="2664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9"/>
          <p:cNvSpPr/>
          <p:nvPr/>
        </p:nvSpPr>
        <p:spPr>
          <a:xfrm>
            <a:off x="1828800" y="2057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pe of Nanking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54100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taan Death March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Kamikaze pilot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honor to die for the emper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kamikaze"/>
          <p:cNvPicPr/>
          <p:nvPr/>
        </p:nvPicPr>
        <p:blipFill>
          <a:blip r:embed="rId1"/>
          <a:stretch/>
        </p:blipFill>
        <p:spPr>
          <a:xfrm>
            <a:off x="3657600" y="2590920"/>
            <a:ext cx="4800600" cy="3825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Image:Ensign Kiyoshi Ogawa hit Bunker Hill.gif"/>
          <p:cNvPicPr/>
          <p:nvPr/>
        </p:nvPicPr>
        <p:blipFill>
          <a:blip r:embed="rId2"/>
          <a:stretch/>
        </p:blipFill>
        <p:spPr>
          <a:xfrm>
            <a:off x="1752480" y="3429000"/>
            <a:ext cx="14288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tomic bomb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4953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ision by Trum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s justification: would save American li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ropped on Hiroshima on Aug. 6, 1945; no Japanese surren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ropped on Nagasaki on Aug. 9, 1945; Japanese surren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ath toll from bombs: approx. 214,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The Fat Man mushroom cloud resulting from the nuclear explosion over Nagasaki rises 18 km (11 mi, 60,000 ft) into the air from the hypocenter."/>
          <p:cNvPicPr/>
          <p:nvPr/>
        </p:nvPicPr>
        <p:blipFill>
          <a:blip r:embed="rId1"/>
          <a:stretch/>
        </p:blipFill>
        <p:spPr>
          <a:xfrm>
            <a:off x="6629400" y="2057400"/>
            <a:ext cx="23893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5" dur="1" fill="hold"/>
                                  <p:tgtEl>
                                    <p:spTgt spid="15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why Japan began a war with the U.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st the reasons why the U.S. won the w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End of the Pacific Wa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SR declared war on Japan on Aug. 8, 194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apan surrendered Aug. 14, 194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aths: U.S. approx. 500,000; Japan approx. 2 mill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200px-Vj_day_kiss"/>
          <p:cNvPicPr/>
          <p:nvPr/>
        </p:nvPicPr>
        <p:blipFill>
          <a:blip r:embed="rId1"/>
          <a:srcRect l="0" t="0" r="0" b="5890"/>
          <a:stretch/>
        </p:blipFill>
        <p:spPr>
          <a:xfrm>
            <a:off x="5500800" y="2057400"/>
            <a:ext cx="33112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4" dur="1" fill="hold"/>
                                  <p:tgtEl>
                                    <p:spTgt spid="15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ummary/Discuss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y did Japan start the war with the U.S.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y did the U.S. win the wa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6666"/>
                </a:solidFill>
                <a:latin typeface="Arial"/>
              </a:rPr>
              <a:t>Stump your partne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66"/>
                </a:solidFill>
                <a:latin typeface="Arial"/>
              </a:rPr>
              <a:t>Take a minute to come up with 1 question. Then see if you can stump your partn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66"/>
                </a:solidFill>
                <a:latin typeface="Arial"/>
              </a:rPr>
              <a:t>We’ll then answer harder questions as a clas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2209680"/>
            <a:ext cx="75438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6666"/>
                </a:solidFill>
                <a:latin typeface="Arial"/>
              </a:rPr>
              <a:t>List 3 facts about America’s war with Japan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Japan pre-194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litaris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erialis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vasion of Chi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vasion of Kore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ink of war with USS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" dur="1" fill="hold"/>
                                  <p:tgtEl>
                                    <p:spTgt spid="10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roblems with Americ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response to Japanese aggression in Asia, the U.S. froze Japanese asset and embargoed these products from going to Japa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p i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gotiations went nowhe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news2715.wav" descr=""/>
          <p:cNvPicPr/>
          <p:nvPr/>
        </p:nvPicPr>
        <p:blipFill>
          <a:blip r:embed="rId1"/>
          <a:stretch/>
        </p:blipFill>
        <p:spPr>
          <a:xfrm>
            <a:off x="7467480" y="1752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earl Harbo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pearl9"/>
          <p:cNvPicPr/>
          <p:nvPr/>
        </p:nvPicPr>
        <p:blipFill>
          <a:blip r:embed="rId2"/>
          <a:stretch/>
        </p:blipFill>
        <p:spPr>
          <a:xfrm>
            <a:off x="1676520" y="1660680"/>
            <a:ext cx="6248160" cy="49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3640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earl Harbo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505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.S. Pacific Fleet based at Pearl Harbor, Hawai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rprise attack…7:55 a.m., Sunday, Dec. 7, 194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Arizona Sinking"/>
          <p:cNvPicPr/>
          <p:nvPr/>
        </p:nvPicPr>
        <p:blipFill>
          <a:blip r:embed="rId1"/>
          <a:stretch/>
        </p:blipFill>
        <p:spPr>
          <a:xfrm>
            <a:off x="4572000" y="4114800"/>
            <a:ext cx="4267080" cy="2590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pearl1"/>
          <p:cNvPicPr/>
          <p:nvPr/>
        </p:nvPicPr>
        <p:blipFill>
          <a:blip r:embed="rId2"/>
          <a:stretch/>
        </p:blipFill>
        <p:spPr>
          <a:xfrm>
            <a:off x="5638680" y="1447920"/>
            <a:ext cx="3124440" cy="25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earl Harbo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apanese bombed Pacific Fleet and military airfiel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.S. casualties: 2,350 servicemen and civilians died; 1,178 wounded; 21 ships and 323 aircraft destroyed or damag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S Arizona sunk, killing 1,17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apanese casualties: less than 100 men, 29 planes, 5 midget submari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  <p:animClr clrSpc="rgb"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3" dur="1" fill="hold"/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pearl5-plane"/>
          <p:cNvPicPr/>
          <p:nvPr/>
        </p:nvPicPr>
        <p:blipFill>
          <a:blip r:embed="rId1"/>
          <a:stretch/>
        </p:blipFill>
        <p:spPr>
          <a:xfrm>
            <a:off x="371520" y="152280"/>
            <a:ext cx="4048200" cy="3206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pearl6"/>
          <p:cNvPicPr/>
          <p:nvPr/>
        </p:nvPicPr>
        <p:blipFill>
          <a:blip r:embed="rId2"/>
          <a:stretch/>
        </p:blipFill>
        <p:spPr>
          <a:xfrm>
            <a:off x="4648320" y="3506760"/>
            <a:ext cx="4114800" cy="3274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pearl7"/>
          <p:cNvPicPr/>
          <p:nvPr/>
        </p:nvPicPr>
        <p:blipFill>
          <a:blip r:embed="rId3"/>
          <a:stretch/>
        </p:blipFill>
        <p:spPr>
          <a:xfrm>
            <a:off x="380880" y="3508200"/>
            <a:ext cx="4038840" cy="32274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pearl8"/>
          <p:cNvPicPr/>
          <p:nvPr/>
        </p:nvPicPr>
        <p:blipFill>
          <a:blip r:embed="rId4"/>
          <a:stretch/>
        </p:blipFill>
        <p:spPr>
          <a:xfrm>
            <a:off x="4648320" y="166680"/>
            <a:ext cx="411480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3T23:40:37Z</dcterms:created>
  <dc:creator>Scott Vigallon</dc:creator>
  <dc:description/>
  <dc:language>en-US</dc:language>
  <cp:lastModifiedBy>Sacerdote, Kevin R.</cp:lastModifiedBy>
  <dcterms:modified xsi:type="dcterms:W3CDTF">2017-02-06T11:47:32Z</dcterms:modified>
  <cp:revision>25</cp:revision>
  <dc:subject/>
  <dc:title>War in the Pacific</dc:title>
</cp:coreProperties>
</file>